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AD8-0E75-486B-9BE4-3A7ECC4A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4BC-D5BA-4DB6-ABA0-8088A08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312-D3EC-4F45-AB0E-46CA4D5D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0C4-72FC-4771-8C2F-EB05B441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E79-64E6-4923-BC47-9BF851BB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60B-64F3-4DEC-91B6-E0A89EA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ED4-02C2-4697-AB50-7ABA7E0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6AB-99C4-48E4-A631-46EC83F3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B19-DD00-4C92-ABD6-590E24D7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147-5DFD-4F2D-B6A1-A28B0E6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382-844F-432A-8F27-1316534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AC0-CBFA-4C38-A6AC-A4B780E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5EBE-7528-4905-ADC3-3DD75E1D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shey and Chas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: Dahlia Malesevic, Alina Dyak, and Michael Galp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shey and Chase wanted to find out whether protein or DNA was hered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ed two 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reproduced in separate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the reproduced phages, the sulfur did not appear, but the phosphorous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ed that DNA is hereditary because it was radio 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S ARE HEREDI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Using Radioactive tracers to label only the protein in RNA-virus which of the following would you use.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) Radioactive P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) Radioactive N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) Radioactive 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) Radioactive C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answer is C) Radioactive S because protein contains Sulfur according to the Hershey Chase Experi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4:15Z</dcterms:created>
  <dc:creator>xpstudent</dc:creator>
  <dc:description/>
  <dc:language>en-US</dc:language>
  <cp:lastModifiedBy>xpstudent</cp:lastModifiedBy>
  <dcterms:modified xsi:type="dcterms:W3CDTF">2010-09-23T14:31:32Z</dcterms:modified>
  <cp:revision>4</cp:revision>
  <dc:subject/>
  <dc:title>Hershey and Chase Experiment</dc:title>
</cp:coreProperties>
</file>